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Evolution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63520" y="48038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Structural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658800" y="5842080"/>
            <a:ext cx="3262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:  Converg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hysiological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:  Divergen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58800" y="95400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that occur in an organism that take a long time to occur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imic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hysiologic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tructur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6"/>
          <p:cNvSpPr/>
          <p:nvPr/>
        </p:nvSpPr>
        <p:spPr>
          <a:xfrm>
            <a:off x="685800" y="12034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ructural adaptation that allow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arml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cies to resembl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armfu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cies is call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80"/>
          <p:cNvSpPr/>
          <p:nvPr/>
        </p:nvSpPr>
        <p:spPr>
          <a:xfrm>
            <a:off x="30492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80"/>
          <p:cNvSpPr/>
          <p:nvPr/>
        </p:nvSpPr>
        <p:spPr>
          <a:xfrm>
            <a:off x="4656240" y="48182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fossil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33520" y="6095880"/>
            <a:ext cx="34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alogou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rtifici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Vestigi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of the following is not evidence for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80"/>
          <p:cNvSpPr/>
          <p:nvPr/>
        </p:nvSpPr>
        <p:spPr>
          <a:xfrm>
            <a:off x="466884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it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tmosphere of Early Earth was largely made up of this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80"/>
          <p:cNvSpPr/>
          <p:nvPr/>
        </p:nvSpPr>
        <p:spPr>
          <a:xfrm>
            <a:off x="26352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yano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35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rchae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lg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group of early organisms did not use or produc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AutoShape 80"/>
          <p:cNvSpPr/>
          <p:nvPr/>
        </p:nvSpPr>
        <p:spPr>
          <a:xfrm>
            <a:off x="263520" y="48038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estig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533520" y="6095880"/>
            <a:ext cx="34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Homologou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952880" y="5029200"/>
            <a:ext cx="35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alogou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imic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body structure that is no longer useful to the present-day organism but may have been used by an ancestor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imc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"/>
          <p:cNvSpPr/>
          <p:nvPr/>
        </p:nvSpPr>
        <p:spPr>
          <a:xfrm>
            <a:off x="533520" y="6095880"/>
            <a:ext cx="33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tructur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AutoShape 80"/>
          <p:cNvSpPr/>
          <p:nvPr/>
        </p:nvSpPr>
        <p:spPr>
          <a:xfrm>
            <a:off x="468324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380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hysiolgoic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type of adaptation allows an organism to blend into its surrou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AutoShape 81"/>
          <p:cNvSpPr/>
          <p:nvPr/>
        </p:nvSpPr>
        <p:spPr>
          <a:xfrm>
            <a:off x="4614840" y="48038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33520" y="6095880"/>
            <a:ext cx="34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tructur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hysiologic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imic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034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type of adaptation occurs very quickly and an example would be a bacteria’s resistance to an antibi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utoShape 80"/>
          <p:cNvSpPr/>
          <p:nvPr/>
        </p:nvSpPr>
        <p:spPr>
          <a:xfrm>
            <a:off x="4697280" y="594360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5029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algou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533520" y="6095880"/>
            <a:ext cx="33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mbry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5029200"/>
            <a:ext cx="352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estigi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Homolgou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when similar structures come from a common ance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AutoShape 80"/>
          <p:cNvSpPr/>
          <p:nvPr/>
        </p:nvSpPr>
        <p:spPr>
          <a:xfrm>
            <a:off x="222120" y="474804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yano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Vir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Eu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rchae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76"/>
          <p:cNvSpPr/>
          <p:nvPr/>
        </p:nvSpPr>
        <p:spPr>
          <a:xfrm>
            <a:off x="685800" y="12034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early organisms produced oxygen which made it possible for species like animals to develop on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533520" y="5029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Homolgou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533520" y="6095880"/>
            <a:ext cx="35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cestr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AutoShape 80"/>
          <p:cNvSpPr/>
          <p:nvPr/>
        </p:nvSpPr>
        <p:spPr>
          <a:xfrm>
            <a:off x="4654440" y="594360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6"/>
          <p:cNvSpPr/>
          <p:nvPr/>
        </p:nvSpPr>
        <p:spPr>
          <a:xfrm>
            <a:off x="4952880" y="5029200"/>
            <a:ext cx="37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estigi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algou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76"/>
          <p:cNvSpPr/>
          <p:nvPr/>
        </p:nvSpPr>
        <p:spPr>
          <a:xfrm>
            <a:off x="685800" y="12034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ilar structures that develop from the same use not from a common ance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olcan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AutoShape 80"/>
          <p:cNvSpPr/>
          <p:nvPr/>
        </p:nvSpPr>
        <p:spPr>
          <a:xfrm>
            <a:off x="4656240" y="48038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5"/>
          <p:cNvSpPr/>
          <p:nvPr/>
        </p:nvSpPr>
        <p:spPr>
          <a:xfrm>
            <a:off x="533520" y="6095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yano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Meteo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rcheabacte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did water come from on Early Ear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Marie Cu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81"/>
          <p:cNvSpPr/>
          <p:nvPr/>
        </p:nvSpPr>
        <p:spPr>
          <a:xfrm>
            <a:off x="26352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19120" y="60278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Charles     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ar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Soc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Carolu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nna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English Scientist developed the Theory of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27792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-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630360" y="5861160"/>
            <a:ext cx="31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Divergent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Convergent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ifferent species in different locations develop similar traits to deal with similar environments &amp; challe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80"/>
          <p:cNvSpPr/>
          <p:nvPr/>
        </p:nvSpPr>
        <p:spPr>
          <a:xfrm>
            <a:off x="461808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The long trunk of an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36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human selection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f a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38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different bird beaks to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at certain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Pure br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ificial Selection is to breed organisms to produce identical traits, what is an example of artificial select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Christie</cp:lastModifiedBy>
  <dcterms:modified xsi:type="dcterms:W3CDTF">2010-04-12T01:03:46Z</dcterms:modified>
  <cp:revision>28</cp:revision>
  <dc:subject/>
  <dc:title>No Slide Title</dc:title>
</cp:coreProperties>
</file>