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F3D-0764-4636-BAF2-366AF9DA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CA7-75BB-405B-B539-4EAEEB52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97C5-39E7-4872-AAD8-0A4718E6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C33-76E3-4B98-B5BC-06A2EAEB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52D4-1E01-4D72-B692-42653D0D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F23-E752-41E6-9A9B-3E2864A7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EA18-BDA0-4C9D-8987-CB1A4932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BF0-7F07-4356-8916-0F1D12C6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2F63-0F83-4F66-8ACB-F9110157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C64-2884-4A3F-A5D2-20DB3D9B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D8A-6FEC-400E-BCC0-999A2058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AA7-4384-4AEE-BE08-85B9CF46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3739-0C61-49FB-8245-09D3E4A04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2.xml"/><Relationship Id="rId29" Type="http://schemas.openxmlformats.org/officeDocument/2006/relationships/slide" Target="slide64.xml"/><Relationship Id="rId30" Type="http://schemas.openxmlformats.org/officeDocument/2006/relationships/slide" Target="slide66.xml"/><Relationship Id="rId31" Type="http://schemas.openxmlformats.org/officeDocument/2006/relationships/slide" Target="slide6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istot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developed a 2-na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ming system (Binomi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menclature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ol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nae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d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assifica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oups in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naean Syste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gdom, Phylum, Class, Order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mily, Genus, Speci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523880" y="2133720"/>
            <a:ext cx="601992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s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cond name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nomial nomencla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ec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ses pair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rasting descript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ments to lea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identification of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chotomo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e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ar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parts of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sshopper’s bo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ad, Thora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Abdom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are ho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a grasshopper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domen that allow 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brea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905120"/>
            <a:ext cx="52578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rac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sshopp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ke a chirp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ise by rubbing the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ge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gs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of the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found betwe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2 compound ey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a grasshopp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p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y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resence of th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ows us to identif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he grasshopper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e or fe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viposit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grasshopper h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pairs of 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sshopp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g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ains olde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found on ear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they are found in extre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viron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chea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cte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usually produ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ir own food and perfor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otosyn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are bo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otrophs &amp; heterotroph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they can be unicellular 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lticellul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ung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lticellular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oduce sexual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im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2438280" y="1676520"/>
            <a:ext cx="50292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conta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that are unicellul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multicellular and organisms that are no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s, animals, or fung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82880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gd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is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worms are see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fter this because the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ed to stay moist, no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cause they will drow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instor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s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-segmented par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n earthworm’s bo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itellu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irculates blood through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ntire earthworm’s bo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2514600" y="1676520"/>
            <a:ext cx="40384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ar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all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arthworm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ve through the soi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they are found in pai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wn the length of the earthwor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ta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organ in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worm grinds 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 that the earthworm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s eat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worm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zzar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816200" y="2120760"/>
            <a:ext cx="54324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d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shared becau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ommon ancesto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mologo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shared becaus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on function not sha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cesto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logo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ientists use the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figure out when a divergen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evolutionary chang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ccurred between spec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logen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4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phylogen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ists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oking for relationships amo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a/tax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1066680" y="990720"/>
            <a:ext cx="716292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ystem that grou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a by shared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rived characterist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adist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eature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 members of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oup have in comm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r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ac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eature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ly evolved with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group being studi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riv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ac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organism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s right &amp; left bod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mmet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later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mmet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ven M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WordArt 3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Taxonomy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WordArt 2" descr=""/>
          <p:cNvPicPr/>
          <p:nvPr/>
        </p:nvPicPr>
        <p:blipFill>
          <a:blip r:embed="rId1"/>
          <a:stretch/>
        </p:blipFill>
        <p:spPr>
          <a:xfrm>
            <a:off x="1365120" y="1212840"/>
            <a:ext cx="6797880" cy="46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1">
            <a:hlinkClick r:id="rId3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4320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adia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ymmetr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4">
            <a:hlinkClick r:id="" action="ppaction://hlinkshowjump?jump=endshow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axonom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rasshopp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Kingdom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arthworm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o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axonom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ven Mo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axonom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104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15649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30891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47304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47401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461304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0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614664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6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7"/>
          <p:cNvSpPr/>
          <p:nvPr/>
        </p:nvSpPr>
        <p:spPr>
          <a:xfrm>
            <a:off x="76705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38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is an early taxonomi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grouped organisms in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groups- plants &amp; anim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gugger</cp:lastModifiedBy>
  <dcterms:modified xsi:type="dcterms:W3CDTF">2010-04-07T12:42:11Z</dcterms:modified>
  <cp:revision>75</cp:revision>
  <dc:subject/>
  <dc:title>No Slide Title</dc:title>
</cp:coreProperties>
</file>