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0DD-D201-47F7-AB90-ECF7DAC4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2E3-0B07-47D8-87F0-94A440B1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80A-EE8B-49C8-AE13-A4698B8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6A7-E875-4BD9-98E6-F3EC148F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2E0-CCDF-41F1-80E4-811DCF9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D8D-E41E-4E3B-8D53-E3EC305A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342-75D5-411D-BAF5-30C16ACA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D67-3018-4E10-824F-74D5F4D1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22D-7CA1-4165-93E0-065FC275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6E7-C715-49B6-B238-30A4B31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EF6-9A30-4EFB-8D9D-6B82B4BF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992-404A-4275-86F4-C449AB5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178A-9C75-42C9-A454-2CD94B59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2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t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eveloped a 2-n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ing system (Binom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encla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 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an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, Phylum, Class, Ord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y, Genus, Spec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523880" y="2133720"/>
            <a:ext cx="6019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 name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omial nomencl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s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sting 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s to le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identification of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chotom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d, Thora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Abd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ho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domen that allow 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brea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ra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 a chirp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ise by rubbing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of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compound ey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y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ence of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ows us to identif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grasshopper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or 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iposi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rasshopp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irs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 old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found on 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extre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chea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usually produ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own food and perf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trophs &amp; heterotro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can be unicellular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e sexu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5029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cont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that are un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ulticellular and organisms that are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, animals, or 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s are s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this because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to stay moist, 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cause they will d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nst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segmented p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tel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rculates blood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tire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514600" y="167652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rthwor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 through the so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pa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 the length of the earthw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ta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rgan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grinds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that the 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ea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zz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6200" y="2120760"/>
            <a:ext cx="5432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mmon 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 function not sha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 use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igure out when a diverg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evolutionary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red between 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log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phyloge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ist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oking for relationships amo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/tax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066680" y="990720"/>
            <a:ext cx="71629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ystem that 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 by shared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d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member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 have in 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ly evolve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roup being stud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right &amp; left bod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ate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axonomy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ordArt 2" descr=""/>
          <p:cNvPicPr/>
          <p:nvPr/>
        </p:nvPicPr>
        <p:blipFill>
          <a:blip r:embed="rId1"/>
          <a:stretch/>
        </p:blipFill>
        <p:spPr>
          <a:xfrm>
            <a:off x="1365120" y="1212840"/>
            <a:ext cx="6797880" cy="46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di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ngdom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04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5649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0891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7304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7401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6130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1466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76705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an early taxonom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grouped organisms i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groups- plants &amp; 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gugger</cp:lastModifiedBy>
  <dcterms:modified xsi:type="dcterms:W3CDTF">2010-04-07T12:42:11Z</dcterms:modified>
  <cp:revision>75</cp:revision>
  <dc:subject/>
  <dc:title>No Slide Title</dc:title>
</cp:coreProperties>
</file>