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0FD-6D2D-4687-A4C9-67161A5C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DBB-D5C5-437A-812B-40644E48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749-51C7-48DD-9DD6-79729E56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7FA-9F60-49A7-83C3-EA90D2C4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F3B-3EBB-4D41-9FD4-7C87308B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ACE-3708-45A1-AD74-4E1CA80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356-D044-46C7-84AE-8986CBFC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4CE-6113-4D28-9335-DE065E9D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E59-0CC8-47D8-A25A-D093E11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AA4-E35F-4C90-AECC-905AE64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B46-1F69-4742-9EF0-447EDEC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48C-E156-4C6B-BEEE-1550E22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7154-CB6C-4BFA-A1E7-652EF0F63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2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istot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developed a 2-n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ing system (Binom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menclature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ssific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 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naean Syst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, Phylum, Class, Ord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mily, Genus, Spec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523880" y="2133720"/>
            <a:ext cx="6019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 name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omial nomencl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s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asting descript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ments to le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identification of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chotom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d, Thora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Abdom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ho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domen that allow i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brea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ra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e a chirp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ise by rubbing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of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betw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 compound ey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a 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y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ence of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ows us to identif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grasshopper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or 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viposi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rasshopper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irs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eg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s olde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found on ear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extre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iron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chea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usually produ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ir own food and perfo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trophs &amp; heterotro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can be unicellular 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icellular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e sexual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5029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group cont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 that are unicellul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ulticellular and organisms that are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s, animals, or fung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82880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gd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s are se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this because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ed to stay moist, 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cause they will drow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inst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-segmented p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tell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irculates blood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tire earthworm’s bo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514600" y="167652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arthworm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 through the soi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y are found in pai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 the length of the earthw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ta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rgan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grinds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that the 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eat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zz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16200" y="2120760"/>
            <a:ext cx="54324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d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mmon 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mo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shared becaus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mon function not sha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ce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ogo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a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 use the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igure out when a diverg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evolutionary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red between spe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logen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phyloge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ist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oking for relationships amo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/tax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066680" y="990720"/>
            <a:ext cx="716292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ystem that 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a by shared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ad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members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 have in comm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eature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ly evolve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roup being studi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riv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right &amp; left bod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later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x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Taxonomy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WordArt 2" descr=""/>
          <p:cNvPicPr/>
          <p:nvPr/>
        </p:nvPicPr>
        <p:blipFill>
          <a:blip r:embed="rId1"/>
          <a:stretch/>
        </p:blipFill>
        <p:spPr>
          <a:xfrm>
            <a:off x="1365120" y="1212840"/>
            <a:ext cx="6797880" cy="46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1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adi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ymmet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sshopp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ingdom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wor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ven Mo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xonom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104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5649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30891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7304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47401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6130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14664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76705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is an early taxonom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grouped organisms in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groups- plants &amp; 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gugger</cp:lastModifiedBy>
  <dcterms:modified xsi:type="dcterms:W3CDTF">2010-04-07T12:42:11Z</dcterms:modified>
  <cp:revision>75</cp:revision>
  <dc:subject/>
  <dc:title>No Slide Title</dc:title>
</cp:coreProperties>
</file>