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B76-96F8-4AE0-B479-1D149821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492-5340-4DB9-9367-FDEA904C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096-D796-4BA4-B202-7B033D6E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EAF-A056-4DD4-B46C-E5DE6329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A645-469F-4E99-9004-81636F88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ACF-77CD-4CC8-8E29-B2671EFE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77B-8989-4EAA-B8EB-3B88A230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C5D-008E-4DA7-8E8A-F361AD57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409-BB07-4236-8895-284E0526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3A6-27DB-444F-8D36-BC20FAC8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02F-DBBF-4CAD-9E7F-D3061B42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ABC-33F7-45AE-9E1C-52F16107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06B8-DE75-4342-873E-E2C1E2BFB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2.xml"/><Relationship Id="rId29" Type="http://schemas.openxmlformats.org/officeDocument/2006/relationships/slide" Target="slide64.xml"/><Relationship Id="rId30" Type="http://schemas.openxmlformats.org/officeDocument/2006/relationships/slide" Target="slide66.xml"/><Relationship Id="rId31" Type="http://schemas.openxmlformats.org/officeDocument/2006/relationships/slide" Target="slide6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istot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developed a 2-na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ming system (Binomi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menclature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ol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nae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d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assifica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oups in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naean Syste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gdom, Phylum, Class, Order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mily, Genus, Speci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523880" y="2133720"/>
            <a:ext cx="60199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s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cond name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nomial nomencla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ec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ses pair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rasting descript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ments to lea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identification of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chotomo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e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r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parts of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hopper’s bo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ad, Thora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Abdom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re ho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a grasshopper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domen that allow 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brea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905120"/>
            <a:ext cx="52578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rac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hopp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ke a chirp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ise by rubbing the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ge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gs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of the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found betwe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2 compound ey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a grasshopp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p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y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resence of th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ows us to identif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 grasshopper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e or fe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viposit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grasshopper h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pairs of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hopp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g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ains olde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found on ear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they are found in extre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viron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chea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cte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usually produ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ir own food and perfor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otosyn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are bo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otrophs &amp; heterotroph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they can be unicellular 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icellul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ung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icellular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oduce sexual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im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438280" y="1676520"/>
            <a:ext cx="50292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conta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that are unicellul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multicellular and organisms that are no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s, animals, or fung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gd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is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worms are see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fter this because the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ed to stay moist, no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cause they will drow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instor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s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-segmented par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n earthworm’s bo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itellu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irculates blood through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ntire earthworm’s bo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2514600" y="1676520"/>
            <a:ext cx="4038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ar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ll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arthworm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e through the soi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they are found in pai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wn the length of the earthwor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ta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organ in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worm grinds 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 that the earthworm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s eat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worm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zzar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16200" y="2120760"/>
            <a:ext cx="54324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d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shared becau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ommon ancest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mologo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shared becaus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on function not sha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cest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logo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tists use the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figure out when a divergen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evolutionary chang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ccurred between spec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logen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4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phylogen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ists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oking for relationships amo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a/tax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066680" y="990720"/>
            <a:ext cx="716292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ystem that grou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a by shared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rived characterist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adist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eature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 members of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oup have in comm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r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eature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ly evolved with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group being studi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riv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organism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s right &amp; left bod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met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later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met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ven M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Taxonomy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WordArt 2" descr=""/>
          <p:cNvPicPr/>
          <p:nvPr/>
        </p:nvPicPr>
        <p:blipFill>
          <a:blip r:embed="rId1"/>
          <a:stretch/>
        </p:blipFill>
        <p:spPr>
          <a:xfrm>
            <a:off x="1365120" y="1212840"/>
            <a:ext cx="6797880" cy="46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1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320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adi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ymmetr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4">
            <a:hlinkClick r:id="" action="ppaction://hlinkshowjump?jump=endshow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xonom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rasshopp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Kingdom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arthworm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o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xonom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ven Mo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xonom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104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15649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30891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47304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47401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461304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0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614664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6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7"/>
          <p:cNvSpPr/>
          <p:nvPr/>
        </p:nvSpPr>
        <p:spPr>
          <a:xfrm>
            <a:off x="76705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38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is an early taxonomi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grouped organisms in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groups- plants &amp; anim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gugger</cp:lastModifiedBy>
  <dcterms:modified xsi:type="dcterms:W3CDTF">2010-04-07T12:42:11Z</dcterms:modified>
  <cp:revision>75</cp:revision>
  <dc:subject/>
  <dc:title>No Slide Title</dc:title>
</cp:coreProperties>
</file>