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AF5-FBFB-4467-9362-61573DB8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400-C0A9-46E0-AB30-AF23ADE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D93-EB1F-4147-A919-8C3DEF4E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CAB-9AE9-49F4-BECE-E50B4D0F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AA5-02C3-414A-9F81-BEA491C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039-CCB0-4C61-8CA3-3679681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78E-5A4D-485B-8928-A6C0991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909-FD4F-4E30-89EE-D196E45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4FE-A3C1-4D36-AFBF-0F69E2ED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8BD-A070-4730-9C1D-517D401E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6F3-A472-44D3-AA0F-9486487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F75-46A6-4C95-BA1C-C1FE47D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53B-6BBF-48F7-A3ED-A3A86DF5D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 principle cla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organic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,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arbon in 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fo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ucleic 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matter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body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w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o of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hydroge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 atom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:2: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ugar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ke glucose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ct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ugars form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2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jo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in of 3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ed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age in plant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ycog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Fatty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 glyce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 ac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ll the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are bonded to 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 bo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 where som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rbon atom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ked by a 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d, producing “kinks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saturated-fats-picture.jpg"/>
          <p:cNvPicPr/>
          <p:nvPr/>
        </p:nvPicPr>
        <p:blipFill>
          <a:blip r:embed="rId1"/>
          <a:srcRect l="0" t="0" r="2332" b="3765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rg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lin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 call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ilding bloc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promote chem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z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agen, hai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cles, &amp; fib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ood c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4" descr="lipid.gif"/>
          <p:cNvPicPr/>
          <p:nvPr/>
        </p:nvPicPr>
        <p:blipFill>
          <a:blip r:embed="rId1"/>
          <a:srcRect l="0" t="17302" r="2003" b="0"/>
          <a:stretch/>
        </p:blipFill>
        <p:spPr>
          <a:xfrm>
            <a:off x="2133720" y="1243080"/>
            <a:ext cx="47242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obular Struc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chai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led 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uga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trand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piral 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ch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consist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tra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 o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ed-pai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strands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s heredi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2 ext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-storing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orary storage sit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broken dow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od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eady Supp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by cell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1" name="Picture 5" descr="ATP_molecule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pid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of steroi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und in animal cel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mbra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olestero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pi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ein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 to other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oe Rago</cp:lastModifiedBy>
  <dcterms:modified xsi:type="dcterms:W3CDTF">2009-10-24T22:24:17Z</dcterms:modified>
  <cp:revision>56</cp:revision>
  <dc:subject/>
  <dc:title>No Slide Title</dc:title>
</cp:coreProperties>
</file>