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5CD-4C24-4C7F-92DF-AAB2015F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7E3-9AE6-414A-ADD8-DA37D06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934-E280-4857-BA59-F16E5A2C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F97-80A5-4BF1-9F12-FE9DBB55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D3D-EA2D-4ABA-BC51-D3409268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79A-9FA7-48DE-B795-78FB5AF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414-96B5-47C2-9C35-9FAA5BC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10A-5355-4A3B-8AD6-85D8115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62F-3277-4B8C-AE79-67927AE9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B85-E8B2-4DAA-A8F7-65359EE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4F-341B-4B5E-A1B3-EACBE75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19-66C4-4DD4-B0D8-078AC6D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25A-D8C1-4B8B-AEF3-633D0314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 principle cla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organic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,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arbon in 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fo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ucleic 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matter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body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w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o of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hydroge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 atom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:2: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ugar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ke glucose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ct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ugars form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2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jo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in of 3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ed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age in plant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ycog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Fatty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 glyce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 ac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ll the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are bonded to 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 bo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 where som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rbon atom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ked by a 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d, producing “kinks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saturated-fats-picture.jpg"/>
          <p:cNvPicPr/>
          <p:nvPr/>
        </p:nvPicPr>
        <p:blipFill>
          <a:blip r:embed="rId1"/>
          <a:srcRect l="0" t="0" r="2332" b="3765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rg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lin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 call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ilding bloc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promote chem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z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agen, hai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cles, &amp; fib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ood c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4" descr="lipid.gif"/>
          <p:cNvPicPr/>
          <p:nvPr/>
        </p:nvPicPr>
        <p:blipFill>
          <a:blip r:embed="rId1"/>
          <a:srcRect l="0" t="17302" r="2003" b="0"/>
          <a:stretch/>
        </p:blipFill>
        <p:spPr>
          <a:xfrm>
            <a:off x="2133720" y="1243080"/>
            <a:ext cx="47242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obular Struc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chai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led 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uga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trand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piral 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ch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consist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tra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 o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ed-pai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strands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s heredi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2 ext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-storing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orary storage sit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broken dow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od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eady Supp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by cell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1" name="Picture 5" descr="ATP_molecule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pid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of steroi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und in animal cel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mbra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olestero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pi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ein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 to other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oe Rago</cp:lastModifiedBy>
  <dcterms:modified xsi:type="dcterms:W3CDTF">2009-10-24T22:24:17Z</dcterms:modified>
  <cp:revision>56</cp:revision>
  <dc:subject/>
  <dc:title>No Slide Title</dc:title>
</cp:coreProperties>
</file>