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E46F-8982-435D-8152-9F151D8B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A511-FCAC-45C2-9A20-1266D459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3E5-1B0C-4919-AC89-0FE326BB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4A16-B654-4BDF-9FFC-9D9A601B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DFD-F67C-4EED-B30B-2FB19F58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CC62-969D-4484-9BE8-082203EF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22A-2E7C-48C1-A5BF-28562BA4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A9C8-A452-4814-A321-9558877A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D313-CABE-442E-8D56-054ABFB0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5E03-F87B-4DA4-B22D-6063547F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9674-2023-4A24-9AD5-12A10916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875-1FCB-4029-B9EC-6C681ECF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CCA1-3CEE-4DA1-B1BB-CB4498A58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bohydrate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pids, Protein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Nucleic Ac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4 principle clas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organic compou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ydrogen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xygen, &amp;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ther carbon at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ther element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valently bond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carbon in organ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quired for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fun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bohydrate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pids, protein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nucleic  ac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st matter 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r body t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t wa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tio of carb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hydrogen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xygen atom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b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:2: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ngle sugar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ke glucose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ucto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nosacchar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uble sugars form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2 monosacchar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join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acchar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in of 3 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e monosacchar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oined toge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lysacchar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types of energ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orage in plant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im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r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lycog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p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store energ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bohydra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AutoShape 6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Fatty Ac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a glycer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lecu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fatty aci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re all the carb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s are bonded to 2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ydrogen bo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tur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tt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Fat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id where som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arbon atoms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nked by a 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ond, producing “kinks”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the molecu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satur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tt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31" name="Picture 4" descr="saturated-fats-picture.jpg"/>
          <p:cNvPicPr/>
          <p:nvPr/>
        </p:nvPicPr>
        <p:blipFill>
          <a:blip r:embed="rId1"/>
          <a:srcRect l="0" t="0" r="2332" b="3765"/>
          <a:stretch/>
        </p:blipFill>
        <p:spPr>
          <a:xfrm>
            <a:off x="3048120" y="152388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amp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p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rge molecu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ed by link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maller molecules call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ino ac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p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e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ilding block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min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of 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promote chemic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zy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llagen, hair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scles, &amp; fiber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lood clo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ample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48" name="Picture 4" descr="lipid.gif"/>
          <p:cNvPicPr/>
          <p:nvPr/>
        </p:nvPicPr>
        <p:blipFill>
          <a:blip r:embed="rId1"/>
          <a:srcRect l="0" t="17302" r="2003" b="0"/>
          <a:stretch/>
        </p:blipFill>
        <p:spPr>
          <a:xfrm>
            <a:off x="2133720" y="1243080"/>
            <a:ext cx="472428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lobular Struc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ng chain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maller molecu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lled nucleot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cle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ugar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base,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hosph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part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nucleot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strand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cleot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spiral arou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ch o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y consist of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ngle strand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cleotides or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ased-pair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cleoti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ng strands of 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stores hereditar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forma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cleic Ac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ngle nucleot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th 2 extr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ergy-storing phosph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ou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0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mporary storage sit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ergy broken down fr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od molecu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quired b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 to fun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eady Supp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T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ergy Molecu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sed by cells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form rea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9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1" name="Picture 5" descr="ATP_molecule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ucture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3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5" name="WordArt 3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Lipids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of steroid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ound in animal cel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embran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1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4320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olestero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4">
            <a:hlinkClick r:id="" action="ppaction://hlinkshowjump?jump=endshow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rbon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mpounds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rbohydrates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ipids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roteins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ucleic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cid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ain carbon at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valently bonded to other ele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Joe Rago</cp:lastModifiedBy>
  <dcterms:modified xsi:type="dcterms:W3CDTF">2009-10-24T22:24:17Z</dcterms:modified>
  <cp:revision>56</cp:revision>
  <dc:subject/>
  <dc:title>No Slide Title</dc:title>
</cp:coreProperties>
</file>