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D1A5-F691-4C24-8599-46F8275F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603-C283-4095-98D0-0D225CCA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050-CB5A-4EA5-A8EA-5D15396B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639-0A4B-4F6F-9615-B1F896C6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3B6-093C-42D8-BDB3-A7450854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AB1-CFF0-4653-982B-ECDE61DA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AF8-8E36-4B14-900D-86AC397B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A65-9DF5-44B8-9E81-5677976B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BEC-8017-4858-A090-221DC57F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99C-A040-45E0-ABDC-D9B18CCF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3C9-80D3-4169-93A1-60957A94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878-9F00-4A5B-8BE0-24B561FC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E5CB-19A3-410A-AB6B-F66E445F3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bohydrate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, Protein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Nucleic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 principle clas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organic 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ydrogen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xygen, &amp;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ther carbon at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ther elemen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valently bond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carbon in organ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quired for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fun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bohydrate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, protein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nucleic 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st matter 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body t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t wa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tio of carb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hydrogen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xygen atom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b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:2: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sugar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ke glucose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ucto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o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uble sugars form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2 mono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join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in of 3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mono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ined 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ly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types of ener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orage in plant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im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lycog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store ener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bohydra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Fatty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a glycer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le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atty aci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 all the carb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s are bonded to 2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ydrogen bo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tur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t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at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 where som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arbon atoms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ked by a 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nd, producing “kinks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the mole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satur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t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31" name="Picture 4" descr="saturated-fats-picture.jpg"/>
          <p:cNvPicPr/>
          <p:nvPr/>
        </p:nvPicPr>
        <p:blipFill>
          <a:blip r:embed="rId1"/>
          <a:srcRect l="0" t="0" r="2332" b="3765"/>
          <a:stretch/>
        </p:blipFill>
        <p:spPr>
          <a:xfrm>
            <a:off x="3048120" y="15238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amp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rge mole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ed by link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ller molecules call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ino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ilding block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in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of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promote chemic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zy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llagen, hair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scles, &amp; fiber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lood cl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ampl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8" name="Picture 4" descr="lipid.gif"/>
          <p:cNvPicPr/>
          <p:nvPr/>
        </p:nvPicPr>
        <p:blipFill>
          <a:blip r:embed="rId1"/>
          <a:srcRect l="0" t="17302" r="2003" b="0"/>
          <a:stretch/>
        </p:blipFill>
        <p:spPr>
          <a:xfrm>
            <a:off x="2133720" y="1243080"/>
            <a:ext cx="47242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lobular Struc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ng chain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ller molec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lled nucleot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ugar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base,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osph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part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ucleot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strand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ot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spiral ar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ch o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y consist of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strand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otides or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sed-pair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ot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ng strands of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stores hereditar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rma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ic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nucleot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th 2 extr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ergy-storing phosph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u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mporary storage sit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ergy broken down fr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od molec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quired b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to fun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eady Supp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ergy Mole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sed by cells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form rea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1" name="Picture 5" descr="ATP_molecule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uctur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ipid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of steroid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ound in animal cel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embran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1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olestero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4">
            <a:hlinkClick r:id="" action="ppaction://hlinkshowjump?jump=endshow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rbon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pounds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rbohydrates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ipids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roteins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ucleic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cid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ain carbon at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valently bonded to other 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oe Rago</cp:lastModifiedBy>
  <dcterms:modified xsi:type="dcterms:W3CDTF">2009-10-24T22:24:17Z</dcterms:modified>
  <cp:revision>56</cp:revision>
  <dc:subject/>
  <dc:title>No Slide Title</dc:title>
</cp:coreProperties>
</file>