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986-F9DF-4B62-BE70-FB5FD6FE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0CD-4632-4274-8578-E5F2C3E4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8B6-646F-4BE9-88B9-47F0E446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0E3-29AA-414D-93C1-4B5C9B2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72D-0A55-41D0-8452-AC102789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BA2-F50A-48EF-9BAD-43F5F509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F66-8658-4D1D-B817-3F25A41E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4F8-7AA7-4AA2-B11A-853D0775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B5D-D7F7-4844-BEB7-1CBCC6E9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976-FACA-4F8E-949A-605E194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E04-99B4-444D-9E09-77BEB832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376-DD9D-4B52-BB8A-B94ACED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23F-16FC-4BE9-B6B3-64F6F1983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do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or to replica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vent breakag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le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divide once the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h matur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rve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 or 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this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ary F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3" name="Picture 2" descr="dna.gif"/>
          <p:cNvPicPr/>
          <p:nvPr/>
        </p:nvPicPr>
        <p:blipFill>
          <a:blip r:embed="rId1"/>
          <a:stretch/>
        </p:blipFill>
        <p:spPr>
          <a:xfrm>
            <a:off x="1809720" y="12859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trand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shorte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ghtly coils into ro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cell 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uces 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in their 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rrow is pointing to 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ctur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9" name="Picture 2" descr="microtubules.jpg"/>
          <p:cNvPicPr/>
          <p:nvPr/>
        </p:nvPicPr>
        <p:blipFill>
          <a:blip r:embed="rId1"/>
          <a:srcRect l="0" t="0" r="0" b="15913"/>
          <a:stretch/>
        </p:blipFill>
        <p:spPr>
          <a:xfrm>
            <a:off x="1981080" y="1523880"/>
            <a:ext cx="5384880" cy="4699080"/>
          </a:xfrm>
          <a:prstGeom prst="rect">
            <a:avLst/>
          </a:prstGeom>
          <a:ln w="0">
            <a:noFill/>
          </a:ln>
        </p:spPr>
      </p:pic>
      <p:sp>
        <p:nvSpPr>
          <p:cNvPr id="300" name="Down Arrow 3"/>
          <p:cNvSpPr/>
          <p:nvPr/>
        </p:nvSpPr>
        <p:spPr>
          <a:xfrm>
            <a:off x="3886200" y="2209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4"/>
          <p:cNvSpPr/>
          <p:nvPr/>
        </p:nvSpPr>
        <p:spPr>
          <a:xfrm>
            <a:off x="5257800" y="2362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1773720" y="1066680"/>
            <a:ext cx="5164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arrows are pointing to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ual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ex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matri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gi apparat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ing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ffic signal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ccur between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ows cell to control 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ckpo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ck of contro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ell cycl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Fiber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oun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body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ew nucle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s in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a dis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ped protein, whi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 centrom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of each chromos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rovides attachment sit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circ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nd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ploid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wi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tight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apped around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Stem Cell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 characteristi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stem cells makes th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y good options for futu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ures of diseases like Spinal Cor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jur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tipotent: The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n become any 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bo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pull apart the pa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pla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kin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at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line u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ong the midd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and 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one another by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hat grow at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normally accele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e and can result in dis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 sha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exten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coming from the centrio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 up a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quator of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)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ntrome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in a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772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Spindle Fib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ssemble,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to chromatin sta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ar envelope reassemb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, Metapha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within the bod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 not inclu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cells like sperm or eg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some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un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2 cells from oppos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 the se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X, Y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iplo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 with 3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F:\2009-06-20\024.JPG"/>
          <p:cNvPicPr/>
          <p:nvPr/>
        </p:nvPicPr>
        <p:blipFill>
          <a:blip r:embed="rId2"/>
          <a:stretch/>
        </p:blipFill>
        <p:spPr>
          <a:xfrm>
            <a:off x="2743200" y="3276720"/>
            <a:ext cx="3844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5" descr="female-symbol.png"/>
          <p:cNvPicPr/>
          <p:nvPr/>
        </p:nvPicPr>
        <p:blipFill>
          <a:blip r:embed="rId1"/>
          <a:stretch/>
        </p:blipFill>
        <p:spPr>
          <a:xfrm>
            <a:off x="3343320" y="1552680"/>
            <a:ext cx="2457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Picture 4" descr="Male-Symbol.jpg"/>
          <p:cNvPicPr/>
          <p:nvPr/>
        </p:nvPicPr>
        <p:blipFill>
          <a:blip r:embed="rId1"/>
          <a:stretch/>
        </p:blipFill>
        <p:spPr>
          <a:xfrm>
            <a:off x="2362320" y="1192320"/>
            <a:ext cx="44956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2" descr="anaphase.jpg"/>
          <p:cNvPicPr/>
          <p:nvPr/>
        </p:nvPicPr>
        <p:blipFill>
          <a:blip r:embed="rId1"/>
          <a:srcRect l="0" t="6784" r="0" b="11864"/>
          <a:stretch/>
        </p:blipFill>
        <p:spPr>
          <a:xfrm>
            <a:off x="1752480" y="1219320"/>
            <a:ext cx="593100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 flipV="1">
            <a:off x="4191120" y="5715000"/>
            <a:ext cx="1066680" cy="380880"/>
          </a:xfrm>
          <a:prstGeom prst="rect">
            <a:avLst/>
          </a:prstGeom>
          <a:solidFill>
            <a:srgbClr val="d2d2f4"/>
          </a:solidFill>
          <a:ln w="9360">
            <a:solidFill>
              <a:srgbClr val="d2d2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990720" y="1219320"/>
            <a:ext cx="99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4" name="Picture 2" descr="metaphase.jpg"/>
          <p:cNvPicPr/>
          <p:nvPr/>
        </p:nvPicPr>
        <p:blipFill>
          <a:blip r:embed="rId1"/>
          <a:stretch/>
        </p:blipFill>
        <p:spPr>
          <a:xfrm>
            <a:off x="2209680" y="990720"/>
            <a:ext cx="5105520" cy="523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838080" y="1295280"/>
            <a:ext cx="1981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2" descr="telophase.jpg"/>
          <p:cNvPicPr/>
          <p:nvPr/>
        </p:nvPicPr>
        <p:blipFill>
          <a:blip r:embed="rId1"/>
          <a:stretch/>
        </p:blipFill>
        <p:spPr>
          <a:xfrm>
            <a:off x="2819520" y="990720"/>
            <a:ext cx="3481200" cy="5227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066680" y="1295280"/>
            <a:ext cx="1905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XO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incl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bbed neck, short statu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rudimentary ova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rn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somy 2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XY and the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infert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linefelt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9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e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90512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ried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dy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eel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orri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divide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ase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sorde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stag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grow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s normal funct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copying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rtiliz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gg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tha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11280" y="2048040"/>
            <a:ext cx="5969160" cy="33717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ccur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 material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ed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disjun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gment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ntrols the 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readily 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n by a microscope and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DNA &amp;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36640" y="1816200"/>
            <a:ext cx="5280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43120" y="1816200"/>
            <a:ext cx="5273640" cy="35305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copi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s the sex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hristie</cp:lastModifiedBy>
  <dcterms:modified xsi:type="dcterms:W3CDTF">2010-01-24T19:36:19Z</dcterms:modified>
  <cp:revision>74</cp:revision>
  <dc:subject/>
  <dc:title>No Slide Title</dc:title>
</cp:coreProperties>
</file>