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D3F5-1C88-46EB-B5D0-6A64305B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ACF8-E496-4F42-9546-6ABECD72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A0EF-EB57-449C-9395-DF8AB447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123F-ABA3-4ACD-8FAA-18F51780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334F-335D-43E5-B726-33EDE73F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F955-6C73-4EDD-A972-6601428D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4216-0A58-44CD-9760-BE1BC0BD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4DE7-138E-482F-8437-0E643E0F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6D72-C95B-4015-8B54-0BFBCC92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EA16-C15C-4373-B8F5-8BB69745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2DBB-08C5-4421-B438-2732089A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71B4-2879-4C3B-96FE-D6BBD0F1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FEC0-DB07-4F53-9C3C-FA6C82D37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9.xml"/><Relationship Id="rId3" Type="http://schemas.openxmlformats.org/officeDocument/2006/relationships/slide" Target="slide81.xml"/><Relationship Id="rId4" Type="http://schemas.openxmlformats.org/officeDocument/2006/relationships/slide" Target="slide83.xml"/><Relationship Id="rId5" Type="http://schemas.openxmlformats.org/officeDocument/2006/relationships/slide" Target="slide85.xml"/><Relationship Id="rId6" Type="http://schemas.openxmlformats.org/officeDocument/2006/relationships/slide" Target="slide87.xml"/><Relationship Id="rId7" Type="http://schemas.openxmlformats.org/officeDocument/2006/relationships/slide" Target="slide89.xml"/><Relationship Id="rId8" Type="http://schemas.openxmlformats.org/officeDocument/2006/relationships/slide" Target="slide91.xml"/><Relationship Id="rId9" Type="http://schemas.openxmlformats.org/officeDocument/2006/relationships/slide" Target="slide93.xml"/><Relationship Id="rId10" Type="http://schemas.openxmlformats.org/officeDocument/2006/relationships/slide" Target="slide95.xml"/><Relationship Id="rId11" Type="http://schemas.openxmlformats.org/officeDocument/2006/relationships/slide" Target="slide97.xml"/><Relationship Id="rId12" Type="http://schemas.openxmlformats.org/officeDocument/2006/relationships/slide" Target="slide99.xml"/><Relationship Id="rId13" Type="http://schemas.openxmlformats.org/officeDocument/2006/relationships/slide" Target="slide101.xml"/><Relationship Id="rId14" Type="http://schemas.openxmlformats.org/officeDocument/2006/relationships/slide" Target="slide103.xml"/><Relationship Id="rId15" Type="http://schemas.openxmlformats.org/officeDocument/2006/relationships/slide" Target="slide105.xml"/><Relationship Id="rId16" Type="http://schemas.openxmlformats.org/officeDocument/2006/relationships/slide" Target="slide107.xml"/><Relationship Id="rId17" Type="http://schemas.openxmlformats.org/officeDocument/2006/relationships/slide" Target="slide109.xml"/><Relationship Id="rId18" Type="http://schemas.openxmlformats.org/officeDocument/2006/relationships/slide" Target="slide111.xml"/><Relationship Id="rId19" Type="http://schemas.openxmlformats.org/officeDocument/2006/relationships/slide" Target="slide113.xml"/><Relationship Id="rId20" Type="http://schemas.openxmlformats.org/officeDocument/2006/relationships/slide" Target="slide115.xml"/><Relationship Id="rId21" Type="http://schemas.openxmlformats.org/officeDocument/2006/relationships/slide" Target="slide117.xml"/><Relationship Id="rId22" Type="http://schemas.openxmlformats.org/officeDocument/2006/relationships/slide" Target="slide119.xml"/><Relationship Id="rId23" Type="http://schemas.openxmlformats.org/officeDocument/2006/relationships/slide" Target="slide121.xml"/><Relationship Id="rId24" Type="http://schemas.openxmlformats.org/officeDocument/2006/relationships/slide" Target="slide123.xml"/><Relationship Id="rId25" Type="http://schemas.openxmlformats.org/officeDocument/2006/relationships/slide" Target="slide125.xml"/><Relationship Id="rId26" Type="http://schemas.openxmlformats.org/officeDocument/2006/relationships/slide" Target="slide128.xml"/><Relationship Id="rId27" Type="http://schemas.openxmlformats.org/officeDocument/2006/relationships/slide" Target="slide130.xml"/><Relationship Id="rId28" Type="http://schemas.openxmlformats.org/officeDocument/2006/relationships/slide" Target="slide132.xml"/><Relationship Id="rId29" Type="http://schemas.openxmlformats.org/officeDocument/2006/relationships/slide" Target="slide134.xml"/><Relationship Id="rId30" Type="http://schemas.openxmlformats.org/officeDocument/2006/relationships/slide" Target="slide136.xml"/><Relationship Id="rId31" Type="http://schemas.openxmlformats.org/officeDocument/2006/relationships/slide" Target="slide13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0.xml"/><Relationship Id="rId29" Type="http://schemas.openxmlformats.org/officeDocument/2006/relationships/slide" Target="slide62.xml"/><Relationship Id="rId30" Type="http://schemas.openxmlformats.org/officeDocument/2006/relationships/slide" Target="slide64.xml"/><Relationship Id="rId31" Type="http://schemas.openxmlformats.org/officeDocument/2006/relationships/slide" Target="slide66.xml"/><Relationship Id="rId32" Type="http://schemas.openxmlformats.org/officeDocument/2006/relationships/slide" Target="slide68.xml"/><Relationship Id="rId33" Type="http://schemas.openxmlformats.org/officeDocument/2006/relationships/slide" Target=""/><Relationship Id="rId3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6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0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do th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ior to replicat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prevent breakage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le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den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5240" y="1511280"/>
            <a:ext cx="398124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5240" y="1511280"/>
            <a:ext cx="3981240" cy="398772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6">
            <a:hlinkClick r:id="rId3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Types of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 not divide once the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ch matur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rve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karyotes or Bacter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vide by this metho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nary Fis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83" name="Picture 2" descr="dna.gif"/>
          <p:cNvPicPr/>
          <p:nvPr/>
        </p:nvPicPr>
        <p:blipFill>
          <a:blip r:embed="rId1"/>
          <a:stretch/>
        </p:blipFill>
        <p:spPr>
          <a:xfrm>
            <a:off x="1809720" y="1285920"/>
            <a:ext cx="55245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typ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 reprodu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uble strand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ring this 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NA shortens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ightly coils into ro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type of cell divi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duces the number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in their daugh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ios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types of cell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vide by meio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me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arrow is pointing to 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icture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eavage furr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eavage Furr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7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99" name="Picture 2" descr="microtubules.jpg"/>
          <p:cNvPicPr/>
          <p:nvPr/>
        </p:nvPicPr>
        <p:blipFill>
          <a:blip r:embed="rId1"/>
          <a:srcRect l="0" t="0" r="0" b="15913"/>
          <a:stretch/>
        </p:blipFill>
        <p:spPr>
          <a:xfrm>
            <a:off x="1981080" y="1523880"/>
            <a:ext cx="5384880" cy="4699080"/>
          </a:xfrm>
          <a:prstGeom prst="rect">
            <a:avLst/>
          </a:prstGeom>
          <a:ln w="0">
            <a:noFill/>
          </a:ln>
        </p:spPr>
      </p:pic>
      <p:sp>
        <p:nvSpPr>
          <p:cNvPr id="300" name="Down Arrow 3"/>
          <p:cNvSpPr/>
          <p:nvPr/>
        </p:nvSpPr>
        <p:spPr>
          <a:xfrm>
            <a:off x="3886200" y="220968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Down Arrow 4"/>
          <p:cNvSpPr/>
          <p:nvPr/>
        </p:nvSpPr>
        <p:spPr>
          <a:xfrm>
            <a:off x="5257800" y="236232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7"/>
          <p:cNvSpPr/>
          <p:nvPr/>
        </p:nvSpPr>
        <p:spPr>
          <a:xfrm>
            <a:off x="1773720" y="1066680"/>
            <a:ext cx="51642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een arrows are pointing to 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xual &amp;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exu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odu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indle matrix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sed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crotubu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med by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olgi apparatu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oining toge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 pl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7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affic signal”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occur between pha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allows cell to control cel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vi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ckpoi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0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ck of contro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cell cycle resul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 th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ncer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3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89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indle Fibers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sed of the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crotubu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8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number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found with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uman body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new nucleol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ms in th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lo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1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is a dis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ped protein, which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found in the centrome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gion of each chromoso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provides attachment site f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b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etoch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4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ngle circula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and of D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found in these typ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karyo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7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ploid number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organism with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8 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8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0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NA is tightl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apped around the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eins within the 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isto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3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3 pair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46 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5" name="WordArt 3"/>
          <p:cNvSpPr txBox="1"/>
          <p:nvPr/>
        </p:nvSpPr>
        <p:spPr>
          <a:xfrm>
            <a:off x="1295280" y="4572000"/>
            <a:ext cx="69343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Stem Cells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is characteristic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of stem cells makes them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ery good options for futur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ures of diseases like Spinal Cor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juri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37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11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4320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otipotent: They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n become any cel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 the bo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41" name="AutoShape 4">
            <a:hlinkClick r:id="" action="ppaction://hlinkshowjump?jump=endshow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pull apart the pai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atid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ring Ana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ind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b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gion whe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at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connec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etoch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vision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ytoplas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et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teri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ytokine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ults 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mation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me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ios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line up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ong the middle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cell and are connec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one another by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etoch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st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at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 that grow at 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bnormally acceler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ate and can result in dise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 dea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nc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r shap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crotubules extend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 coming from the centrio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 whe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ster Chromat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ne up at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quator of the 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vi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pha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AutoShape 6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 whe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lic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the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S)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 in whi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ntromer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par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 in whi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elles in a 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lic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5240" y="1511280"/>
            <a:ext cx="3987720" cy="39877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>
            <a:hlinkClick r:id="rId3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 Where Spindle Fiber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assemble, 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turn to chromatin stat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nuclear envelope reassemb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lo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phase, Metaphas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phase, &amp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lo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 Cyc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to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 within the body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do not inclu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x cells like sperm or eg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tosomes/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matic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med by the un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2 cells from opposi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x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Zygot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termine the se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n individu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x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X, Y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diploi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of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 with 32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6" descr="F:\2009-06-20\024.JPG"/>
          <p:cNvPicPr/>
          <p:nvPr/>
        </p:nvPicPr>
        <p:blipFill>
          <a:blip r:embed="rId2"/>
          <a:stretch/>
        </p:blipFill>
        <p:spPr>
          <a:xfrm>
            <a:off x="2743200" y="3276720"/>
            <a:ext cx="38448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50" name="Picture 5" descr="female-symbol.png"/>
          <p:cNvPicPr/>
          <p:nvPr/>
        </p:nvPicPr>
        <p:blipFill>
          <a:blip r:embed="rId1"/>
          <a:stretch/>
        </p:blipFill>
        <p:spPr>
          <a:xfrm>
            <a:off x="3343320" y="1552680"/>
            <a:ext cx="24573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tosis/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io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m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mb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54" name="Picture 4" descr="Male-Symbol.jpg"/>
          <p:cNvPicPr/>
          <p:nvPr/>
        </p:nvPicPr>
        <p:blipFill>
          <a:blip r:embed="rId1"/>
          <a:stretch/>
        </p:blipFill>
        <p:spPr>
          <a:xfrm>
            <a:off x="2362320" y="1192320"/>
            <a:ext cx="449568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le symb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58" name="Picture 2" descr="anaphase.jpg"/>
          <p:cNvPicPr/>
          <p:nvPr/>
        </p:nvPicPr>
        <p:blipFill>
          <a:blip r:embed="rId1"/>
          <a:srcRect l="0" t="6784" r="0" b="11864"/>
          <a:stretch/>
        </p:blipFill>
        <p:spPr>
          <a:xfrm>
            <a:off x="1752480" y="1219320"/>
            <a:ext cx="5931000" cy="48243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 flipV="1">
            <a:off x="4191120" y="5715000"/>
            <a:ext cx="1066680" cy="380880"/>
          </a:xfrm>
          <a:prstGeom prst="rect">
            <a:avLst/>
          </a:prstGeom>
          <a:solidFill>
            <a:srgbClr val="d2d2f4"/>
          </a:solidFill>
          <a:ln w="9360">
            <a:solidFill>
              <a:srgbClr val="d2d2f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990720" y="1219320"/>
            <a:ext cx="9903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of ___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4" name="Picture 2" descr="metaphase.jpg"/>
          <p:cNvPicPr/>
          <p:nvPr/>
        </p:nvPicPr>
        <p:blipFill>
          <a:blip r:embed="rId1"/>
          <a:stretch/>
        </p:blipFill>
        <p:spPr>
          <a:xfrm>
            <a:off x="2209680" y="990720"/>
            <a:ext cx="5105520" cy="5232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3"/>
          <p:cNvSpPr/>
          <p:nvPr/>
        </p:nvSpPr>
        <p:spPr>
          <a:xfrm>
            <a:off x="838080" y="1295280"/>
            <a:ext cx="1981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of 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71" name="Picture 2" descr="telophase.jpg"/>
          <p:cNvPicPr/>
          <p:nvPr/>
        </p:nvPicPr>
        <p:blipFill>
          <a:blip r:embed="rId1"/>
          <a:stretch/>
        </p:blipFill>
        <p:spPr>
          <a:xfrm>
            <a:off x="2819520" y="990720"/>
            <a:ext cx="3481200" cy="52275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3"/>
          <p:cNvSpPr/>
          <p:nvPr/>
        </p:nvSpPr>
        <p:spPr>
          <a:xfrm>
            <a:off x="1066680" y="1295280"/>
            <a:ext cx="190512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of ____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lopha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agra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Symbo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otype is XO.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acteristics inclu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bbed neck, short stature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rudimentary ovar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urner’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dro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otype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isomy 2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wn’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dro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0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Genotype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XXY and the individu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inferti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linefelter’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dro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46 X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rmal M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o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46 X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rm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ma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o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aryo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sord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91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939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67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el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fid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867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867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s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eak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1905120" y="1905120"/>
            <a:ext cx="525780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orried ye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xio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dy Ye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eeling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nfiden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Unsu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2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reaking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Ou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3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orrie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Yet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nxiou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5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ea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Yet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35280" y="586728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15591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308340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4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5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6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7"/>
          <p:cNvSpPr/>
          <p:nvPr/>
        </p:nvSpPr>
        <p:spPr>
          <a:xfrm>
            <a:off x="46072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28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0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1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2"/>
          <p:cNvSpPr/>
          <p:nvPr/>
        </p:nvSpPr>
        <p:spPr>
          <a:xfrm>
            <a:off x="61408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3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4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5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6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7"/>
          <p:cNvSpPr/>
          <p:nvPr/>
        </p:nvSpPr>
        <p:spPr>
          <a:xfrm>
            <a:off x="76647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38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typ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 divide b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to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enetic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teri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el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ivisio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hases of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ell Cyc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tosis/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eiosi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iagram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&amp; Symbol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Karyotyp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isorder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matic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9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ring this stag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cell grows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forms normal function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cluding copying D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rtiliz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gg 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Zygo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 that h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3 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rm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um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ring this 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elles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lic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11280" y="2048040"/>
            <a:ext cx="5969160" cy="337176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6">
            <a:hlinkClick r:id="rId3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occurs wh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fa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separ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etic material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ocated within the 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ndisjuncti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gment of D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controls the produ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 prote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7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nnot be readily b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en by a microscope and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de of DNA &amp; prote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at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0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36640" y="1816200"/>
            <a:ext cx="528012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43120" y="1816200"/>
            <a:ext cx="5273640" cy="353052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6">
            <a:hlinkClick r:id="rId3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ring this pha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NA is copi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 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6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individu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termines the sex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chil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Christie</cp:lastModifiedBy>
  <dcterms:modified xsi:type="dcterms:W3CDTF">2010-01-24T19:36:19Z</dcterms:modified>
  <cp:revision>74</cp:revision>
  <dc:subject/>
  <dc:title>No Slide Title</dc:title>
</cp:coreProperties>
</file>