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8CC-A5B9-44BD-98DC-D0E6AA10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F9B-E2BB-4928-ACBF-DC8EEAC8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014-0C3A-4813-883B-35B16A33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367-6BAA-4F7C-943D-8929DA5E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0C7-303A-4B1F-B68B-A4BD6574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7F1-DDF8-41CC-84AA-5DC066D1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82D-90E7-4F5D-956A-3EEA9612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11E-7941-4A6C-BDE3-E2DE5557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1B4-8C83-437E-BB88-2B381562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DC6-9019-4268-A193-BD0BCB51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9C9-F84C-4FA0-8281-C9D69EE3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F4B-2BB6-4E8C-A316-DF9A55FE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B92C-BA8F-420A-BE10-9635DBD58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do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or to replica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prevent breakage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le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den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1240" cy="3987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divide once the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ch matur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rve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 or Bacte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this metho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nary Fis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3" name="Picture 2" descr="dna.gif"/>
          <p:cNvPicPr/>
          <p:nvPr/>
        </p:nvPicPr>
        <p:blipFill>
          <a:blip r:embed="rId1"/>
          <a:stretch/>
        </p:blipFill>
        <p:spPr>
          <a:xfrm>
            <a:off x="1809720" y="1285920"/>
            <a:ext cx="5524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uble strand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shorten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ghtly coils into ro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cell 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duces 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in their daugh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cell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de by 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rrow is pointing to 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ictur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eavage Furr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9" name="Picture 2" descr="microtubules.jpg"/>
          <p:cNvPicPr/>
          <p:nvPr/>
        </p:nvPicPr>
        <p:blipFill>
          <a:blip r:embed="rId1"/>
          <a:srcRect l="0" t="0" r="0" b="15913"/>
          <a:stretch/>
        </p:blipFill>
        <p:spPr>
          <a:xfrm>
            <a:off x="1981080" y="1523880"/>
            <a:ext cx="5384880" cy="4699080"/>
          </a:xfrm>
          <a:prstGeom prst="rect">
            <a:avLst/>
          </a:prstGeom>
          <a:ln w="0">
            <a:noFill/>
          </a:ln>
        </p:spPr>
      </p:pic>
      <p:sp>
        <p:nvSpPr>
          <p:cNvPr id="300" name="Down Arrow 3"/>
          <p:cNvSpPr/>
          <p:nvPr/>
        </p:nvSpPr>
        <p:spPr>
          <a:xfrm>
            <a:off x="3886200" y="22096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wn Arrow 4"/>
          <p:cNvSpPr/>
          <p:nvPr/>
        </p:nvSpPr>
        <p:spPr>
          <a:xfrm>
            <a:off x="5257800" y="23623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1773720" y="1066680"/>
            <a:ext cx="5164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en arrows are pointing to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ual &amp;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exu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matri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olgi apparat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ining toge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affic signal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occur between ph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allows cell to control 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ckpoi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ck of contro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ell cycle res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Fibers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ed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ound with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body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ew nucleol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s in th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1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s a dis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ped protein, whic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 centrom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of each chromos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rovides attachment site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le circul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and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ound in 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karyo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ploid number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rganism wit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tight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apped around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eins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t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pair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Stem Cells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is characteristic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stem cells makes the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ery good options for futur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ures of diseases like Spinal Cor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jur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tipotent: They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n become any 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 the bo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4">
            <a:hlinkClick r:id="" action="ppaction://hlinkshowjump?jump=endshow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pull apart the pai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pind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b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gion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plas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tokin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ult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ation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me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line up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ong the middl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and are conne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one another by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inetoch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that grow at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normally acceler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ate and can result in dis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dea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c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r shap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tubules exten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coming from the centrio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ster Chromati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ne up at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quator of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S)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ntromer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in whic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in a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5240" y="1511280"/>
            <a:ext cx="398772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 Where Spindle Fibe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ssemble,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turn to chromatin stat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nuclear envelope reassemb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hase, Metaphas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, 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as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within the bod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do not includ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cells like sperm or eg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utosome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ed by the un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2 cells from oppos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 the se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x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X, Y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iplo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sm with 32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F:\2009-06-20\024.JPG"/>
          <p:cNvPicPr/>
          <p:nvPr/>
        </p:nvPicPr>
        <p:blipFill>
          <a:blip r:embed="rId2"/>
          <a:stretch/>
        </p:blipFill>
        <p:spPr>
          <a:xfrm>
            <a:off x="2743200" y="3276720"/>
            <a:ext cx="38448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0" name="Picture 5" descr="female-symbol.png"/>
          <p:cNvPicPr/>
          <p:nvPr/>
        </p:nvPicPr>
        <p:blipFill>
          <a:blip r:embed="rId1"/>
          <a:stretch/>
        </p:blipFill>
        <p:spPr>
          <a:xfrm>
            <a:off x="3343320" y="1552680"/>
            <a:ext cx="24573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4" name="Picture 4" descr="Male-Symbol.jpg"/>
          <p:cNvPicPr/>
          <p:nvPr/>
        </p:nvPicPr>
        <p:blipFill>
          <a:blip r:embed="rId1"/>
          <a:stretch/>
        </p:blipFill>
        <p:spPr>
          <a:xfrm>
            <a:off x="2362320" y="1192320"/>
            <a:ext cx="44956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e symb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2" descr="anaphase.jpg"/>
          <p:cNvPicPr/>
          <p:nvPr/>
        </p:nvPicPr>
        <p:blipFill>
          <a:blip r:embed="rId1"/>
          <a:srcRect l="0" t="6784" r="0" b="11864"/>
          <a:stretch/>
        </p:blipFill>
        <p:spPr>
          <a:xfrm>
            <a:off x="1752480" y="1219320"/>
            <a:ext cx="593100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 flipV="1">
            <a:off x="4191120" y="5715000"/>
            <a:ext cx="1066680" cy="380880"/>
          </a:xfrm>
          <a:prstGeom prst="rect">
            <a:avLst/>
          </a:prstGeom>
          <a:solidFill>
            <a:srgbClr val="d2d2f4"/>
          </a:solidFill>
          <a:ln w="9360">
            <a:solidFill>
              <a:srgbClr val="d2d2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990720" y="1219320"/>
            <a:ext cx="990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4" name="Picture 2" descr="metaphase.jpg"/>
          <p:cNvPicPr/>
          <p:nvPr/>
        </p:nvPicPr>
        <p:blipFill>
          <a:blip r:embed="rId1"/>
          <a:stretch/>
        </p:blipFill>
        <p:spPr>
          <a:xfrm>
            <a:off x="2209680" y="990720"/>
            <a:ext cx="5105520" cy="5232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838080" y="1295280"/>
            <a:ext cx="1981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1" name="Picture 2" descr="telophase.jpg"/>
          <p:cNvPicPr/>
          <p:nvPr/>
        </p:nvPicPr>
        <p:blipFill>
          <a:blip r:embed="rId1"/>
          <a:stretch/>
        </p:blipFill>
        <p:spPr>
          <a:xfrm>
            <a:off x="2819520" y="990720"/>
            <a:ext cx="3481200" cy="5227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066680" y="1295280"/>
            <a:ext cx="19051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of ____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o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XO.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acteristics inclu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bbed neck, short statur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rudimentary ovar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urn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isomy 2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Genotype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XXY and the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inferti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linefelter’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dro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Ma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46 X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ma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ord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9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el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905120" y="1905120"/>
            <a:ext cx="5257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rried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dy Ye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eel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nfid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Unsu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reak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u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orrie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xiou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ea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et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s divide b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enet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teri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vis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ases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ell Cyc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tosis/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eios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agra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 Symbol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aryotyp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Disorder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atic Cel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stag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ell grow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forms normal functio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luding copying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ertiliz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gg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Zyg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 that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3 chromoso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m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m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elles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lic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11280" y="2048040"/>
            <a:ext cx="5969160" cy="33717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occurs wh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osomes f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epar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tic material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cated within the ce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disjuncti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gment of D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ontrols the produ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prote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e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not be readily b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en by a microscope and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de of DNA &amp; prote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rom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36640" y="1816200"/>
            <a:ext cx="52801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43120" y="1816200"/>
            <a:ext cx="5273640" cy="35305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>
            <a:hlinkClick r:id="rId3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ring this phas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NA is copi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 ph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individu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ermines the sex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il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Christie</cp:lastModifiedBy>
  <dcterms:modified xsi:type="dcterms:W3CDTF">2010-01-24T19:36:19Z</dcterms:modified>
  <cp:revision>74</cp:revision>
  <dc:subject/>
  <dc:title>No Slide Title</dc:title>
</cp:coreProperties>
</file>